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6A80-D86D-417A-9113-778BA4A8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A20-F588-49FA-9B39-CA01151E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2B76-6547-4593-9688-98F0FD2D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C54F-5894-4682-8052-4770BF3ED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928-AF84-407E-A8B4-75EC939C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BF00-480C-4267-A821-6B2C00CD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6C7-FE77-4EBF-8477-0090AC03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7E52-A994-4A58-8D03-4DF93EAC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B6D7-EF25-491D-8287-A005BF3F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1221-7083-4628-B12F-74FA9E08F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076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3908520"/>
            <a:ext cx="8076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14FA-D134-4B0C-92B1-9F0015963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292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58FA-B904-44E5-B9BF-65AED8315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5320" y="159984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6640" y="159984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390852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5320" y="390852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6640" y="3908520"/>
            <a:ext cx="260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AD1F-377A-4EFB-9F07-0C5264681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5B88-8DD4-416B-83DD-E761C3D74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524C-CDE9-4A87-9D20-D7500665B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84B4-08C3-4D00-BE46-FC3ABAC0F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40A9-927C-48F9-B72D-2BF9E54EE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3F6C-E393-4318-8209-C155A84C3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06F1-D5BF-4794-9B17-5293BCBEC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2920" y="390852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2D93-49CD-45B4-9325-864B7DF3A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920" y="1599840"/>
            <a:ext cx="3941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3908520"/>
            <a:ext cx="8076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C6F3-1AF7-438C-B3BB-C2458FA39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5618252D-30B4-4372-89B6-9171FB377F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7D880F57-8EE4-4747-8637-B64E43D25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</a:t>
            </a:r>
            <a:r>
              <a:rPr b="1" lang="en-US" sz="2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familiar with the class of French verbs whose infinitives end 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infinitives of a second class of French verbs end i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ome of the most commonly used verbs in this class are ir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76339A6F-6A23-409A-A555-E98C86A9AA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9_02_p156a"/>
          <p:cNvPicPr/>
          <p:nvPr/>
        </p:nvPicPr>
        <p:blipFill>
          <a:blip r:embed="rId1"/>
          <a:stretch/>
        </p:blipFill>
        <p:spPr>
          <a:xfrm>
            <a:off x="1066680" y="3200400"/>
            <a:ext cx="6953400" cy="200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09_02_p156b"/>
          <p:cNvPicPr/>
          <p:nvPr/>
        </p:nvPicPr>
        <p:blipFill>
          <a:blip r:embed="rId2"/>
          <a:stretch/>
        </p:blipFill>
        <p:spPr>
          <a:xfrm>
            <a:off x="1447920" y="5105520"/>
            <a:ext cx="6237000" cy="1344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09480" y="16002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Sort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express leaving a room or a building.   It also expresses the idea of going out, as with friends or on a date. The preposition </a:t>
            </a: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after </a:t>
            </a: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place someone is leaving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70889134-1D01-4354-A81D-6BCCACA4CE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9_02_p156c"/>
          <p:cNvPicPr/>
          <p:nvPr/>
        </p:nvPicPr>
        <p:blipFill>
          <a:blip r:embed="rId1"/>
          <a:stretch/>
        </p:blipFill>
        <p:spPr>
          <a:xfrm>
            <a:off x="838080" y="1828800"/>
            <a:ext cx="72946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generally used to say someone is leaving a large place such as a city, country, or region. Often, a form of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accompanied by the preposition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ou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a destination name to say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leave for (a place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09_02_p156d"/>
          <p:cNvPicPr/>
          <p:nvPr/>
        </p:nvPicPr>
        <p:blipFill>
          <a:blip r:embed="rId1"/>
          <a:stretch/>
        </p:blipFill>
        <p:spPr>
          <a:xfrm>
            <a:off x="1371600" y="3124080"/>
            <a:ext cx="6400800" cy="177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9_02_p156f"/>
          <p:cNvPicPr/>
          <p:nvPr/>
        </p:nvPicPr>
        <p:blipFill>
          <a:blip r:embed="rId2"/>
          <a:stretch/>
        </p:blipFill>
        <p:spPr>
          <a:xfrm>
            <a:off x="1709640" y="5638680"/>
            <a:ext cx="5722920" cy="11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9_02_p156e"/>
          <p:cNvPicPr/>
          <p:nvPr/>
        </p:nvPicPr>
        <p:blipFill>
          <a:blip r:embed="rId3"/>
          <a:stretch/>
        </p:blipFill>
        <p:spPr>
          <a:xfrm>
            <a:off x="1523880" y="4876920"/>
            <a:ext cx="669924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3CFF5C14-C45C-4425-A91A-4B315E74C5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9_02_p157a"/>
          <p:cNvPicPr/>
          <p:nvPr/>
        </p:nvPicPr>
        <p:blipFill>
          <a:blip r:embed="rId1"/>
          <a:stretch/>
        </p:blipFill>
        <p:spPr>
          <a:xfrm>
            <a:off x="990720" y="1752480"/>
            <a:ext cx="73911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96904848-D43D-45C5-B1BE-8E4E518270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09_02_p157b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297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_02_p157c"/>
          <p:cNvPicPr/>
          <p:nvPr/>
        </p:nvPicPr>
        <p:blipFill>
          <a:blip r:embed="rId2"/>
          <a:stretch/>
        </p:blipFill>
        <p:spPr>
          <a:xfrm>
            <a:off x="1371600" y="4724280"/>
            <a:ext cx="678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FCEEC131-14D2-4064-9795-F7D6E71B70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ent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f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m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09_02_p157e"/>
          <p:cNvPicPr/>
          <p:nvPr/>
        </p:nvPicPr>
        <p:blipFill>
          <a:blip r:embed="rId1"/>
          <a:stretch/>
        </p:blipFill>
        <p:spPr>
          <a:xfrm>
            <a:off x="2971800" y="4114800"/>
            <a:ext cx="3097080" cy="214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09_02_p157d"/>
          <p:cNvPicPr/>
          <p:nvPr/>
        </p:nvPicPr>
        <p:blipFill>
          <a:blip r:embed="rId2"/>
          <a:stretch/>
        </p:blipFill>
        <p:spPr>
          <a:xfrm>
            <a:off x="1752480" y="2209680"/>
            <a:ext cx="6059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0 Vista Higher Learning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0010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2-</a:t>
            </a:r>
            <a:fld id="{4C3F1DEE-32A6-4488-B599-2C6FB322F4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ssayez"/>
          <p:cNvPicPr/>
          <p:nvPr/>
        </p:nvPicPr>
        <p:blipFill>
          <a:blip r:embed="rId1"/>
          <a:stretch/>
        </p:blipFill>
        <p:spPr>
          <a:xfrm>
            <a:off x="547560" y="1371600"/>
            <a:ext cx="804888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62120" y="2590920"/>
          <a:ext cx="7848360" cy="35971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64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__ (sortir) vers neuf heur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__________ (servir) des boissons gazeuses aux invité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__ (partir) quand pour le Canada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e __________ (dormir) pas en cour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__________ (courir) pour attraper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t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le bu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anges des oignons? Ça __________ (sentir) mauvai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__ (sortir) avec des copains ce soi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__________ (partir) pour Dijon ce week-en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44"/>
          <p:cNvSpPr/>
          <p:nvPr/>
        </p:nvSpPr>
        <p:spPr>
          <a:xfrm>
            <a:off x="838080" y="1600200"/>
            <a:ext cx="771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étez les phrases avec la forme correcte du ver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7"/>
          <p:cNvSpPr/>
          <p:nvPr/>
        </p:nvSpPr>
        <p:spPr>
          <a:xfrm>
            <a:off x="20192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83c8"/>
                </a:solidFill>
                <a:latin typeface="Comic Sans MS"/>
              </a:rPr>
              <a:t>sor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Copyright © 2010 Vista Higher Learning. All rights reserved.</dc:creator>
  <dc:description/>
  <cp:keywords/>
  <dc:language>en-US</dc:language>
  <cp:lastModifiedBy>marilaur</cp:lastModifiedBy>
  <dcterms:modified xsi:type="dcterms:W3CDTF">2013-03-17T13:04:40Z</dcterms:modified>
  <cp:revision>44</cp:revision>
  <dc:subject>Structures 9.2</dc:subject>
  <dc:title>PROMENADES</dc:title>
</cp:coreProperties>
</file>